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971-656F-4A32-9C5C-20B649BE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3F3-9355-480A-B2AD-C951CD93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A413-BB34-451C-8C2D-EA7C529C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6AB-3EC6-4362-AFF0-59394753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F4A1-E083-4146-83A4-6123DB1F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9A9A-81DE-45AC-B548-31034014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1159-11EF-423A-BA4A-C5335E61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798B-0636-436D-97DC-51FB0FA0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66AB-05B7-4EB2-ADA7-E7FCF13C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CEC2-C2C0-4760-8312-8D273414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6BA3-FE3F-4F93-AA17-A4E8AFB9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6FA-CC87-478C-A88A-B241CF3C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2483-05F3-4394-BD63-AF46D256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C72B-7E0B-450C-B4E9-2CB3BD3A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D96E-22B4-4C4E-9D89-A6FF829D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33A4-9392-470B-93ED-235ABC97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30EB-7DCA-4B7D-9965-A03619AF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02B5-F4D2-4B46-8CD6-2452547E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94B6-4139-4D21-B644-8F8F2B37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A24-DB1B-45EA-BB53-199AB926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8E18-1E74-4732-9595-B5774484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D60-8D26-472F-B681-02670165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CED-5FAB-4E45-A0E7-561A01F8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0B8-3842-4C82-A722-757FC41B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6C57-0B66-4315-9D80-14D7457428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AFD9-EA96-4385-9C5A-621B5DA583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1720" y="1357200"/>
            <a:ext cx="700056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00200" y="3643200"/>
            <a:ext cx="4214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856880" y="1600200"/>
            <a:ext cx="68295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ontent.foto.mail.ru/bk/u1177/_blogs/i-1108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cle.pickens.k12.sc.us/images/announcement/142542-2081126-857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User\Рабочий стол\картинки на школьныю тему\Рисунок3.png"/>
          <p:cNvPicPr/>
          <p:nvPr/>
        </p:nvPicPr>
        <p:blipFill>
          <a:blip r:embed="rId2"/>
          <a:stretch/>
        </p:blipFill>
        <p:spPr>
          <a:xfrm>
            <a:off x="357120" y="1428840"/>
            <a:ext cx="142884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5:54:40Z</dcterms:created>
  <dc:creator>Comp</dc:creator>
  <dc:description/>
  <dc:language>en-US</dc:language>
  <cp:lastModifiedBy>Comp</cp:lastModifiedBy>
  <dcterms:modified xsi:type="dcterms:W3CDTF">2011-08-01T00:22:11Z</dcterms:modified>
  <cp:revision>4</cp:revision>
  <dc:subject/>
  <dc:title>Слайд 1</dc:title>
</cp:coreProperties>
</file>